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6.png" ContentType="image/png"/>
  <Override PartName="/ppt/media/image4.pct" ContentType="image/x-pict"/>
  <Override PartName="/ppt/media/image7.png" ContentType="image/png"/>
  <Override PartName="/ppt/media/image5.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E2D98-3E2F-4E73-A533-3C65E37090A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18D2F-2F8D-49AC-9E3D-4547F8378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922D9-AADB-4A15-934C-C897E9931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7F118-4353-4631-B137-EC00952FF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F017-FD4C-435D-858F-4F0EBB69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17A49-6484-4194-924D-580A379AD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FE4CB-0D66-4B93-975A-5F718E2D4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CE554-542C-454D-8547-2EE6A11E0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FA781-3249-4AA7-A585-F55B2106F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0045B-9A5C-4BD6-AEC7-A668E0032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952A2-B9AA-43B1-8672-D37BE1973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4017D-F8D1-4520-98FE-AF1D70EE9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75C93-D74E-468E-B105-29DD6EFB5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4C6D3-BD46-46CE-AC73-14A6F4733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F1315-1AEB-4287-A0A2-CF492E4F7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A0F16-36C9-4334-AA54-8112BD90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FB06-7156-43FF-BEF2-A055E0149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5E4CC-ECCB-455B-A42A-9CBC86D9E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45F24-6675-4303-BAEB-8B089D8AF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4F14F-319D-4018-9778-B7C366E83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10288B-10B0-4EB9-8C15-D9D4EF379D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0BFDEE-6DF7-453D-9121-D384F1A5D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FA0A43-8B8D-4918-951D-E3D74642E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D3EA4D-87D9-4E29-89FE-0AF1CC511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9DB7C2-9F3F-4993-8AA5-C6A432B38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3389B-D0FB-4879-BCF1-665910FC1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917244-58AB-4C17-9B82-85DACA330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983B74-6F4B-4D99-8A94-EA023E3E5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E5E4A6-ACB0-424D-87DF-F90985A59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1894C2-138A-42E1-A393-1168B15F5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84B725-CF52-4EA5-9D55-08A21667A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95962FF-D1D4-429A-A382-DDF5122A9A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5A48B91-4E75-4FCC-8724-7F5CDEDED7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7ED156-718B-4442-9737-3788CF7B6A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2AD18-594C-4F0F-B7E5-7C82DFCB3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77937-DD02-4F96-8CF3-EFFF59180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338D-3D7E-479A-9DC9-4F41AC19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8FA36-1F46-499F-AA09-FA94F244C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200D2-3565-4C5E-8D11-B5D6F0E51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810B2-71FD-4E2E-9C1E-2B3532259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74239-3616-4873-8E86-3089C8F6E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01D0F-4B65-479C-A924-696EA9808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F1ABF-1D4A-43D2-8A16-3808B7EF5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5DCE0-82A2-46A7-A641-BAD6FC1DE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2C9C1A-CB18-494C-A19E-BD09A0BAC0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C55AB4-B332-4671-BDF0-73B2B51983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02E283-EE78-48FF-8780-E837F36A96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F640-D1E6-4AC4-BDED-7BDC675A8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943D11-BD90-49D7-9311-1DBFEA814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F93EA2-FDF0-48B3-899E-2A9B06605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976F26-E2D1-4DA7-A33D-6CBD96029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66C9BE-404F-4B9B-ADD1-6AA9541867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3AE79F-078F-4DBB-8A37-1EAF37CE1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703CBB-2159-4133-9904-D7FAB2FD5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0A7B0C-4119-423E-B49C-3A6502F0C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42EE17-DB74-48DF-97A6-2874CD094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27034D-A059-4388-B8C1-86AC30BF0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33EACE-1476-4707-828A-1209689D5A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AAED0-03F1-4390-AC6B-3CE75565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E343E34-1F3F-48E8-89C3-4B10DACBC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FA3B2FF-8589-4548-85BF-CC4A29A0E1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706041-49BA-4603-AC2A-9590A3023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D91610-3E9F-4035-B34D-B060BE63F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BB8A63-0B83-4322-80A3-6BB799DDF3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24ED016-C1DD-4300-8AA4-9FEC812E3C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E559ED-41C1-4FCA-BFF4-CEAFFBF3E4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808457-12C1-4068-BB91-809EDC675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8EE17E-69D4-4EFB-9717-51A9FD63A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24CC75-0D7D-47CA-AD34-CB0857675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F27A-C9BE-40AB-B606-C549DC43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758025F-0015-4092-A462-982BBDAC8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84D64EC-AF3E-4449-ADDA-795C7C2318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99EB6F2-2EB3-4886-BE19-92F4F23721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DDBD4A8-1EBD-417D-AE1D-44BB5C3EC5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44827A-4BD1-42B7-81A7-ED46C6FB9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E803DC0-7448-4685-866D-7F99EEEAE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33AE60-A94D-406F-9869-DDE11C975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7FCEF2-10D1-4754-85C4-944ACA689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21F784-A1B8-4375-90CD-F048B0AB71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2AE1A2-4B8C-49A7-AE5B-0172DD0C4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C0E5-733B-4B8A-93C7-336245DF2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13030E-0853-48CD-AF74-0D5AE46D4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781C36-5CD3-4C4A-8EC3-4E8D6BBEB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C8344D-9602-4483-B5AB-A6CEA8347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5FF8F1-5750-49E5-A4A5-7A5375E78E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0F8D25-B962-4209-B7F9-FBC74CFDF0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061A-C31D-440B-8493-539FE1D42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77B1C-5CDC-49E0-A7B7-70E743806F07}"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6CFD7-BDE5-4761-A9F5-DE7E5E16D3F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D13F8-5567-4C31-B7F1-CE7A6DFD237F}"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8E5D5-90FC-4A63-B48A-EACB694F533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06D87-61E9-44C2-AF25-8DA1C8777F93}"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37D6F-33FF-49CF-B300-E342664ED3A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4283A-03A2-41D7-9B0F-0390BD2C628E}"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32391-A686-4A76-8E04-EC7A937142E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6FDD3-1267-4F87-A458-9BE52A2BC291}"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EBE0D-EDE7-4E0E-A105-1467726CA85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07CF1-79C6-48F9-86F7-1C00ADCC358A}"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47374-4A5C-450D-97F4-CD770BC38CC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4D581-B47C-4FB7-8C4F-BBD0423DA462}"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B0031-F4C8-41EA-BB61-42A58444976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THE BENEFITS OF </a:t>
            </a:r>
            <a:br>
              <a:rPr sz="2700"/>
            </a:br>
            <a:r>
              <a:rPr b="1" lang="en-US" sz="3600" spc="-1" strike="noStrike">
                <a:solidFill>
                  <a:srgbClr val="575f6d"/>
                </a:solidFill>
                <a:latin typeface="Century Schoolbook"/>
              </a:rPr>
              <a:t>SMALL GROUP READING INSTRUCTION </a:t>
            </a:r>
            <a:r>
              <a:rPr b="1" lang="en-US" sz="2700" spc="-1" strike="noStrike">
                <a:solidFill>
                  <a:srgbClr val="575f6d"/>
                </a:solidFill>
                <a:latin typeface="Century Schoolbook"/>
              </a:rPr>
              <a:t>ON ELL STUDENT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19732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Ruth Carrion</a:t>
            </a:r>
            <a:endParaRPr b="0" lang="en-US" sz="20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75f6d"/>
                </a:solidFill>
                <a:latin typeface="Century Schoolbook"/>
              </a:rPr>
              <a:t>ED 702.22</a:t>
            </a:r>
            <a:endParaRPr b="0" lang="en-US" sz="1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75f6d"/>
                </a:solidFill>
                <a:latin typeface="Century Schoolbook"/>
              </a:rPr>
              <a:t>Final Presentation </a:t>
            </a:r>
            <a:endParaRPr b="0" lang="en-US" sz="1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75f6d"/>
                </a:solidFill>
                <a:latin typeface="Century Schoolbook"/>
              </a:rPr>
              <a:t>Spring 2010</a:t>
            </a:r>
            <a:endParaRPr b="0" lang="en-US" sz="1400" spc="-1" strike="noStrike">
              <a:solidFill>
                <a:srgbClr val="000000"/>
              </a:solidFill>
              <a:latin typeface="Century Schoolbook"/>
            </a:endParaRPr>
          </a:p>
        </p:txBody>
      </p:sp>
      <p:pic>
        <p:nvPicPr>
          <p:cNvPr id="360" name="Picture 4" descr=""/>
          <p:cNvPicPr/>
          <p:nvPr/>
        </p:nvPicPr>
        <p:blipFill>
          <a:blip r:embed="rId1"/>
          <a:stretch/>
        </p:blipFill>
        <p:spPr>
          <a:xfrm>
            <a:off x="3360600" y="1254240"/>
            <a:ext cx="2649600" cy="22129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METHOD</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Participant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0 first grade English language learners from a Dual Language classroom in an early childhood school located in Queens, N.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3" descr=""/>
          <p:cNvPicPr/>
          <p:nvPr/>
        </p:nvPicPr>
        <p:blipFill>
          <a:blip r:embed="rId1"/>
          <a:stretch/>
        </p:blipFill>
        <p:spPr>
          <a:xfrm>
            <a:off x="3559320" y="3424320"/>
            <a:ext cx="1012680" cy="184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METHOD</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struments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3D Assessm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 pretest and posttest will be administered.</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gress Monitoring</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 progress will be measured through running records on the Reading 3D.</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84" name="Picture 5" descr="WirlessGen_Reading-3Dprod.jpg"/>
          <p:cNvPicPr/>
          <p:nvPr/>
        </p:nvPicPr>
        <p:blipFill>
          <a:blip r:embed="rId1"/>
          <a:stretch/>
        </p:blipFill>
        <p:spPr>
          <a:xfrm>
            <a:off x="4375080" y="4187880"/>
            <a:ext cx="2708280" cy="2286000"/>
          </a:xfrm>
          <a:prstGeom prst="rect">
            <a:avLst/>
          </a:prstGeom>
          <a:ln w="0">
            <a:noFill/>
          </a:ln>
        </p:spPr>
      </p:pic>
      <p:pic>
        <p:nvPicPr>
          <p:cNvPr id="385" name="Picture 6" descr="reading_assessment_tool.gif"/>
          <p:cNvPicPr/>
          <p:nvPr/>
        </p:nvPicPr>
        <p:blipFill>
          <a:blip r:embed="rId2"/>
          <a:stretch/>
        </p:blipFill>
        <p:spPr>
          <a:xfrm>
            <a:off x="2050920" y="4187880"/>
            <a:ext cx="23241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7467480" cy="52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	</a:t>
            </a:r>
            <a:r>
              <a:rPr b="0" lang="en-US" sz="2700" spc="-1" strike="noStrike">
                <a:solidFill>
                  <a:srgbClr val="575f6d"/>
                </a:solidFill>
                <a:latin typeface="Century Schoolbook"/>
              </a:rPr>
              <a:t>	</a:t>
            </a:r>
            <a:r>
              <a:rPr b="0" lang="en-US" sz="2700" spc="-1" strike="noStrike">
                <a:solidFill>
                  <a:srgbClr val="575f6d"/>
                </a:solidFill>
                <a:latin typeface="Century Schoolbook"/>
              </a:rPr>
              <a:t>	</a:t>
            </a:r>
            <a:r>
              <a:rPr b="0" lang="en-US" sz="2700" spc="-1" strike="noStrike">
                <a:solidFill>
                  <a:srgbClr val="575f6d"/>
                </a:solidFill>
                <a:latin typeface="Century Schoolbook"/>
              </a:rPr>
              <a:t>REFERENCES </a:t>
            </a:r>
            <a:endParaRPr b="0" lang="en-US" sz="2700" spc="-1" strike="noStrike">
              <a:solidFill>
                <a:srgbClr val="575f6d"/>
              </a:solidFill>
              <a:latin typeface="Century Schoolbook"/>
            </a:endParaRPr>
          </a:p>
        </p:txBody>
      </p:sp>
      <p:sp>
        <p:nvSpPr>
          <p:cNvPr id="387" name=""/>
          <p:cNvSpPr txBox="1"/>
          <p:nvPr/>
        </p:nvSpPr>
        <p:spPr>
          <a:xfrm>
            <a:off x="456840" y="803160"/>
            <a:ext cx="7467480" cy="57024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bott, M., Greenwood, C., Kamps, D. K. (2007). Use of evidence-based, small group reading instruction for English Language Learners in elementary grades: Secondary-Tier intervention. </a:t>
            </a:r>
            <a:r>
              <a:rPr b="0" i="1" lang="en-US" sz="1100" spc="-1" strike="noStrike">
                <a:solidFill>
                  <a:srgbClr val="000000"/>
                </a:solidFill>
                <a:latin typeface="Century Schoolbook"/>
              </a:rPr>
              <a:t>Learning Disability Quarterly</a:t>
            </a:r>
            <a:r>
              <a:rPr b="0" lang="en-US" sz="1100" spc="-1" strike="noStrike">
                <a:solidFill>
                  <a:srgbClr val="000000"/>
                </a:solidFill>
                <a:latin typeface="Century Schoolbook"/>
              </a:rPr>
              <a:t>, 30, 153-168.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bott, M., Greenwood, C., Kamps, D. K., Kaufman, J., Veerkamp, M., Wills, A. (2008). Effects of small group reading instruction and curriculum differences for students most at risk in kindergarten: Two-year results for secondary- and tertiary- level intervention. </a:t>
            </a:r>
            <a:r>
              <a:rPr b="0" i="1" lang="en-US" sz="1100" spc="-1" strike="noStrike">
                <a:solidFill>
                  <a:srgbClr val="000000"/>
                </a:solidFill>
                <a:latin typeface="Century Schoolbook"/>
              </a:rPr>
              <a:t>Journal of Learning Disabilities, 41</a:t>
            </a:r>
            <a:r>
              <a:rPr b="0" lang="en-US" sz="1100" spc="-1" strike="noStrike">
                <a:solidFill>
                  <a:srgbClr val="000000"/>
                </a:solidFill>
                <a:latin typeface="Century Schoolbook"/>
              </a:rPr>
              <a:t>(2), 101-114.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rami, P. C., Chambers, B., Lou, Y., Poulsen, C., &amp; Spence, J. C. (2000). Why should we group students within-class for learning? </a:t>
            </a:r>
            <a:r>
              <a:rPr b="0" i="1" lang="en-US" sz="1100" spc="-1" strike="noStrike">
                <a:solidFill>
                  <a:srgbClr val="000000"/>
                </a:solidFill>
                <a:latin typeface="Century Schoolbook"/>
              </a:rPr>
              <a:t>Educational Research and Evaluation, 6</a:t>
            </a:r>
            <a:r>
              <a:rPr b="0" lang="en-US" sz="1100" spc="-1" strike="noStrike">
                <a:solidFill>
                  <a:srgbClr val="000000"/>
                </a:solidFill>
                <a:latin typeface="Century Schoolbook"/>
              </a:rPr>
              <a:t>(2), 158-179.</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rami, P. C., Lou, Y., &amp; Spence, J. C. (2000). Effects of within-class grouping on student achievement: An exploratory model. </a:t>
            </a:r>
            <a:r>
              <a:rPr b="0" i="1" lang="en-US" sz="1100" spc="-1" strike="noStrike">
                <a:solidFill>
                  <a:srgbClr val="000000"/>
                </a:solidFill>
                <a:latin typeface="Century Schoolbook"/>
              </a:rPr>
              <a:t>The Journal of Educational Research, 94</a:t>
            </a:r>
            <a:r>
              <a:rPr b="0" lang="en-US" sz="1100" spc="-1" strike="noStrike">
                <a:solidFill>
                  <a:srgbClr val="000000"/>
                </a:solidFill>
                <a:latin typeface="Century Schoolbook"/>
              </a:rPr>
              <a:t>(2), 101-112.</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mendum, S. J., Creamer, K. H., Fitzgerald, J., Hall, L. A., Head-Reeves, D. M., Hollingsworth, H. L., &amp; Li, Y. (2009). Which reading lesson instruction characteristics matter for early reading achievement? </a:t>
            </a:r>
            <a:r>
              <a:rPr b="0" i="1" lang="en-US" sz="1100" spc="-1" strike="noStrike">
                <a:solidFill>
                  <a:srgbClr val="000000"/>
                </a:solidFill>
                <a:latin typeface="Century Schoolbook"/>
              </a:rPr>
              <a:t>Reading Psychology, 30,</a:t>
            </a:r>
            <a:r>
              <a:rPr b="0" lang="en-US" sz="1100" spc="-1" strike="noStrike">
                <a:solidFill>
                  <a:srgbClr val="000000"/>
                </a:solidFill>
                <a:latin typeface="Century Schoolbook"/>
              </a:rPr>
              <a:t> 119-147. doi: 10.1080/02702710802275173</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ndersen, M., Bonfiglio, C. M., Daly III, E. J., &amp; Persampieri, M. (2006). An experimental analysis of the effects of reading interventions in a small group reading instruction context. </a:t>
            </a:r>
            <a:r>
              <a:rPr b="0" i="1" lang="en-US" sz="1100" spc="-1" strike="noStrike">
                <a:solidFill>
                  <a:srgbClr val="000000"/>
                </a:solidFill>
                <a:latin typeface="Century Schoolbook"/>
              </a:rPr>
              <a:t>Journal of Behavioral Education, 15</a:t>
            </a:r>
            <a:r>
              <a:rPr b="0" lang="en-US" sz="1100" spc="-1" strike="noStrike">
                <a:solidFill>
                  <a:srgbClr val="000000"/>
                </a:solidFill>
                <a:latin typeface="Century Schoolbook"/>
              </a:rPr>
              <a:t>(2), 93-109.</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auer, E. B., Manyak, P. C., Cook, C. (2010). Supporting content learning for English learners. </a:t>
            </a:r>
            <a:r>
              <a:rPr b="0" i="1" lang="en-US" sz="1100" spc="-1" strike="noStrike">
                <a:solidFill>
                  <a:srgbClr val="000000"/>
                </a:solidFill>
                <a:latin typeface="Century Schoolbook"/>
              </a:rPr>
              <a:t>Reading Teacher, 63</a:t>
            </a:r>
            <a:r>
              <a:rPr b="0" lang="en-US" sz="1100" spc="-1" strike="noStrike">
                <a:solidFill>
                  <a:srgbClr val="000000"/>
                </a:solidFill>
                <a:latin typeface="Century Schoolbook"/>
              </a:rPr>
              <a:t>(5), 430-432.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reier, J. I., Fletcher, J. M., &amp; Foorman, B. R. (2003). Interventions aimed at improving reading success: An evidence-based approach. </a:t>
            </a:r>
            <a:r>
              <a:rPr b="0" i="1" lang="en-US" sz="1100" spc="-1" strike="noStrike">
                <a:solidFill>
                  <a:srgbClr val="000000"/>
                </a:solidFill>
                <a:latin typeface="Century Schoolbook"/>
              </a:rPr>
              <a:t>Developmental Neuropsychology, 24(</a:t>
            </a:r>
            <a:r>
              <a:rPr b="0" lang="en-US" sz="1100" spc="-1" strike="noStrike">
                <a:solidFill>
                  <a:srgbClr val="000000"/>
                </a:solidFill>
                <a:latin typeface="Century Schoolbook"/>
              </a:rPr>
              <a:t>2&amp;3), 613-639.</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hapman, J. W., Iversen, S., Tunmer, W. E. (2005). The effects of varying group size on the reading recovery approach to preventive early intervention. </a:t>
            </a:r>
            <a:r>
              <a:rPr b="0" i="1" lang="en-US" sz="1100" spc="-1" strike="noStrike">
                <a:solidFill>
                  <a:srgbClr val="000000"/>
                </a:solidFill>
                <a:latin typeface="Century Schoolbook"/>
              </a:rPr>
              <a:t>Journal of Learning Disabilities, 38</a:t>
            </a:r>
            <a:r>
              <a:rPr b="0" lang="en-US" sz="1100" spc="-1" strike="noStrike">
                <a:solidFill>
                  <a:srgbClr val="000000"/>
                </a:solidFill>
                <a:latin typeface="Century Schoolbook"/>
              </a:rPr>
              <a:t>(5), 456-472.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irino, P. T., Linan-Thompson, S., Prater, K., &amp; Vaughn, S. (2006). The response to intervention of English language learners at risk for reading problems. </a:t>
            </a:r>
            <a:r>
              <a:rPr b="0" i="1" lang="en-US" sz="1100" spc="-1" strike="noStrike">
                <a:solidFill>
                  <a:srgbClr val="000000"/>
                </a:solidFill>
                <a:latin typeface="Century Schoolbook"/>
              </a:rPr>
              <a:t>Journal of Learning Disabilities</a:t>
            </a:r>
            <a:r>
              <a:rPr b="0" lang="en-US" sz="1100" spc="-1" strike="noStrike">
                <a:solidFill>
                  <a:srgbClr val="000000"/>
                </a:solidFill>
                <a:latin typeface="Century Schoolbook"/>
              </a:rPr>
              <a:t>, </a:t>
            </a:r>
            <a:r>
              <a:rPr b="0" i="1" lang="en-US" sz="1100" spc="-1" strike="noStrike">
                <a:solidFill>
                  <a:srgbClr val="000000"/>
                </a:solidFill>
                <a:latin typeface="Century Schoolbook"/>
              </a:rPr>
              <a:t>39</a:t>
            </a:r>
            <a:r>
              <a:rPr b="0" lang="en-US" sz="1100" spc="-1" strike="noStrike">
                <a:solidFill>
                  <a:srgbClr val="000000"/>
                </a:solidFill>
                <a:latin typeface="Century Schoolbook"/>
              </a:rPr>
              <a:t>(5), 390-398.</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llins, B. C., Fickle, K. M., Schuster, J. W. (1998). Teaching different tasks using different stimuli in a heterogeneous small group. </a:t>
            </a:r>
            <a:r>
              <a:rPr b="0" i="1" lang="en-US" sz="1100" spc="-1" strike="noStrike">
                <a:solidFill>
                  <a:srgbClr val="000000"/>
                </a:solidFill>
                <a:latin typeface="Century Schoolbook"/>
              </a:rPr>
              <a:t>Journal of Behavioral Education, 8</a:t>
            </a:r>
            <a:r>
              <a:rPr b="0" lang="en-US" sz="1100" spc="-1" strike="noStrike">
                <a:solidFill>
                  <a:srgbClr val="000000"/>
                </a:solidFill>
                <a:latin typeface="Century Schoolbook"/>
              </a:rPr>
              <a:t>(2), 219-244.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ke, N. L, Helf, S., Flowers, C. P., (2009). Effects of two grouping conditions on students who are at risk for reading failure. </a:t>
            </a:r>
            <a:r>
              <a:rPr b="0" i="1" lang="en-US" sz="1100" spc="-1" strike="noStrike">
                <a:solidFill>
                  <a:srgbClr val="000000"/>
                </a:solidFill>
                <a:latin typeface="Century Schoolbook"/>
              </a:rPr>
              <a:t>Preventing school failure, 53</a:t>
            </a:r>
            <a:r>
              <a:rPr b="0" lang="en-US" sz="1100" spc="-1" strike="noStrike">
                <a:solidFill>
                  <a:srgbClr val="000000"/>
                </a:solidFill>
                <a:latin typeface="Century Schoolbook"/>
              </a:rPr>
              <a:t>(2), 113-126.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746748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REFERENCES CONTINUED </a:t>
            </a:r>
            <a:endParaRPr b="0" lang="en-US" sz="3000" spc="-1" strike="noStrike">
              <a:solidFill>
                <a:srgbClr val="575f6d"/>
              </a:solidFill>
              <a:latin typeface="Century Schoolbook"/>
            </a:endParaRPr>
          </a:p>
        </p:txBody>
      </p:sp>
      <p:sp>
        <p:nvSpPr>
          <p:cNvPr id="389" name=""/>
          <p:cNvSpPr txBox="1"/>
          <p:nvPr/>
        </p:nvSpPr>
        <p:spPr>
          <a:xfrm>
            <a:off x="456840" y="1089000"/>
            <a:ext cx="7467480" cy="538488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ke, N. L., Kretlow, A. G., Helf, S. (2010). Supplemental reading help for kindergarten students: How early should you start? </a:t>
            </a:r>
            <a:r>
              <a:rPr b="0" i="1" lang="en-US" sz="1100" spc="-1" strike="noStrike">
                <a:solidFill>
                  <a:srgbClr val="000000"/>
                </a:solidFill>
                <a:latin typeface="Century Schoolbook"/>
              </a:rPr>
              <a:t>Preventing School Failure, 54</a:t>
            </a:r>
            <a:r>
              <a:rPr b="0" lang="en-US" sz="1100" spc="-1" strike="noStrike">
                <a:solidFill>
                  <a:srgbClr val="000000"/>
                </a:solidFill>
                <a:latin typeface="Century Schoolbook"/>
              </a:rPr>
              <a:t>(3), 137-144.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per, J. L., MacGregor, J., Robinson, P., &amp; Smith, K. A. (2000). Implementing small-group instruction: Insights from successful practitioners. </a:t>
            </a:r>
            <a:r>
              <a:rPr b="0" i="1" lang="en-US" sz="1100" spc="-1" strike="noStrike">
                <a:solidFill>
                  <a:srgbClr val="000000"/>
                </a:solidFill>
                <a:latin typeface="Century Schoolbook"/>
              </a:rPr>
              <a:t>New Directions for Teaching and Learning, 81</a:t>
            </a:r>
            <a:r>
              <a:rPr b="0" lang="en-US" sz="1100" spc="-1" strike="noStrike">
                <a:solidFill>
                  <a:srgbClr val="000000"/>
                </a:solidFill>
                <a:latin typeface="Century Schoolbook"/>
              </a:rPr>
              <a:t>, 63-76.</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J., Gerber, M., Jimenez, T., Leafstedt, J., Richards, C., &amp; Villaruz, J. (2004). English reading effects of small-group intervention in Spanish for K-1 English learners. </a:t>
            </a:r>
            <a:r>
              <a:rPr b="0" i="1" lang="en-US" sz="1100" spc="-1" strike="noStrike">
                <a:solidFill>
                  <a:srgbClr val="000000"/>
                </a:solidFill>
                <a:latin typeface="Century Schoolbook"/>
              </a:rPr>
              <a:t>Learning Disabilities Research &amp; Practice, 19</a:t>
            </a:r>
            <a:r>
              <a:rPr b="0" lang="en-US" sz="1100" spc="-1" strike="noStrike">
                <a:solidFill>
                  <a:srgbClr val="000000"/>
                </a:solidFill>
                <a:latin typeface="Century Schoolbook"/>
              </a:rPr>
              <a:t>(4), 239-251.</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oorman, B. R., Torgesen, J. (2001). Critical elements of classroom and small-group instruction promote reading success in all children. </a:t>
            </a:r>
            <a:r>
              <a:rPr b="0" i="1" lang="en-US" sz="1100" spc="-1" strike="noStrike">
                <a:solidFill>
                  <a:srgbClr val="000000"/>
                </a:solidFill>
                <a:latin typeface="Century Schoolbook"/>
              </a:rPr>
              <a:t>Learning Disabilities Research &amp; Practice, 16</a:t>
            </a:r>
            <a:r>
              <a:rPr b="0" lang="en-US" sz="1100" spc="-1" strike="noStrike">
                <a:solidFill>
                  <a:srgbClr val="000000"/>
                </a:solidFill>
                <a:latin typeface="Century Schoolbook"/>
              </a:rPr>
              <a:t>(4), 203-212.</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Guastello, E. F., Lenz, C. (2005). Student accountability: guided reading kidstations. </a:t>
            </a:r>
            <a:r>
              <a:rPr b="0" i="1" lang="en-US" sz="1100" spc="-1" strike="noStrike">
                <a:solidFill>
                  <a:srgbClr val="000000"/>
                </a:solidFill>
                <a:latin typeface="Century Schoolbook"/>
              </a:rPr>
              <a:t>International Reading Association, 59</a:t>
            </a:r>
            <a:r>
              <a:rPr b="0" lang="en-US" sz="1100" spc="-1" strike="noStrike">
                <a:solidFill>
                  <a:srgbClr val="000000"/>
                </a:solidFill>
                <a:latin typeface="Century Schoolbook"/>
              </a:rPr>
              <a:t>(2), 144-156.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Huebner, T. (2009). Small- group intervention for ELLs. </a:t>
            </a:r>
            <a:r>
              <a:rPr b="0" i="1" lang="en-US" sz="1100" spc="-1" strike="noStrike">
                <a:solidFill>
                  <a:srgbClr val="000000"/>
                </a:solidFill>
                <a:latin typeface="Century Schoolbook"/>
              </a:rPr>
              <a:t>Educational Leadership, 66</a:t>
            </a:r>
            <a:r>
              <a:rPr b="0" lang="en-US" sz="1100" spc="-1" strike="noStrike">
                <a:solidFill>
                  <a:srgbClr val="000000"/>
                </a:solidFill>
                <a:latin typeface="Century Schoolbook"/>
              </a:rPr>
              <a:t>(7), 90-91.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endall, J. (2006). Small group instruction for English language learners. </a:t>
            </a:r>
            <a:r>
              <a:rPr b="0" i="1" lang="en-US" sz="1100" spc="-1" strike="noStrike">
                <a:solidFill>
                  <a:srgbClr val="000000"/>
                </a:solidFill>
                <a:latin typeface="Century Schoolbook"/>
              </a:rPr>
              <a:t>Principal Leadership 6</a:t>
            </a:r>
            <a:r>
              <a:rPr b="0" lang="en-US" sz="1100" spc="-1" strike="noStrike">
                <a:solidFill>
                  <a:srgbClr val="000000"/>
                </a:solidFill>
                <a:latin typeface="Century Schoolbook"/>
              </a:rPr>
              <a:t>(6), 28-31.</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uhn, M. (2004). Helping students become accurate, expressive readers: Fluency instruction for small groups. </a:t>
            </a:r>
            <a:r>
              <a:rPr b="0" i="1" lang="en-US" sz="1100" spc="-1" strike="noStrike">
                <a:solidFill>
                  <a:srgbClr val="000000"/>
                </a:solidFill>
                <a:latin typeface="Century Schoolbook"/>
              </a:rPr>
              <a:t>The Reading Teacher, 58</a:t>
            </a:r>
            <a:r>
              <a:rPr b="0" lang="en-US" sz="1100" spc="-1" strike="noStrike">
                <a:solidFill>
                  <a:srgbClr val="000000"/>
                </a:solidFill>
                <a:latin typeface="Century Schoolbook"/>
              </a:rPr>
              <a:t>(4), 338-344.</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uhn, M. R. (2005). A comparative study of small group fluency instruction. </a:t>
            </a:r>
            <a:r>
              <a:rPr b="0" i="1" lang="en-US" sz="1100" spc="-1" strike="noStrike">
                <a:solidFill>
                  <a:srgbClr val="000000"/>
                </a:solidFill>
                <a:latin typeface="Century Schoolbook"/>
              </a:rPr>
              <a:t>Reading Psychology, 26,</a:t>
            </a:r>
            <a:r>
              <a:rPr b="0" lang="en-US" sz="1100" spc="-1" strike="noStrike">
                <a:solidFill>
                  <a:srgbClr val="000000"/>
                </a:solidFill>
                <a:latin typeface="Century Schoolbook"/>
              </a:rPr>
              <a:t> 127-146. doi: 10.1080/02702710590930492</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yle, D. W., McIntyre, E., &amp; Moore, G. H. (2006). A primary-grade teacher’s guidance toward small-group dialogue. </a:t>
            </a:r>
            <a:r>
              <a:rPr b="0" i="1" lang="en-US" sz="1100" spc="-1" strike="noStrike">
                <a:solidFill>
                  <a:srgbClr val="000000"/>
                </a:solidFill>
                <a:latin typeface="Century Schoolbook"/>
              </a:rPr>
              <a:t>Reading Research Quarterly, 41</a:t>
            </a:r>
            <a:r>
              <a:rPr b="0" lang="en-US" sz="1100" spc="-1" strike="noStrike">
                <a:solidFill>
                  <a:srgbClr val="000000"/>
                </a:solidFill>
                <a:latin typeface="Century Schoolbook"/>
              </a:rPr>
              <a:t>(1), 36-66</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Lewis, J. L., Mahdavi, J. N., &amp; Menzies, H. M. (2008). Early intervention in reading: From research to practice. </a:t>
            </a:r>
            <a:r>
              <a:rPr b="0" i="1" lang="en-US" sz="1100" spc="-1" strike="noStrike">
                <a:solidFill>
                  <a:srgbClr val="000000"/>
                </a:solidFill>
                <a:latin typeface="Century Schoolbook"/>
              </a:rPr>
              <a:t>Remedial and Special Education, 29</a:t>
            </a:r>
            <a:r>
              <a:rPr b="0" lang="en-US" sz="1100" spc="-1" strike="noStrike">
                <a:solidFill>
                  <a:srgbClr val="000000"/>
                </a:solidFill>
                <a:latin typeface="Century Schoolbook"/>
              </a:rPr>
              <a:t>(2), 67-77.</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MacPhee, K., Rashotte, C. A., &amp; Torgesen, J. K. (2001). The effectiveness of a group reading instruction program with poor readers in multiple grades. </a:t>
            </a:r>
            <a:r>
              <a:rPr b="0" i="1" lang="en-US" sz="1100" spc="-1" strike="noStrike">
                <a:solidFill>
                  <a:srgbClr val="000000"/>
                </a:solidFill>
                <a:latin typeface="Century Schoolbook"/>
              </a:rPr>
              <a:t>Learning Disability Quarterly, 24</a:t>
            </a:r>
            <a:r>
              <a:rPr b="0" lang="en-US" sz="1100" spc="-1" strike="noStrike">
                <a:solidFill>
                  <a:srgbClr val="000000"/>
                </a:solidFill>
                <a:latin typeface="Century Schoolbook"/>
              </a:rPr>
              <a:t>(2), 119-134.</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Menzies, H. M., Mahdavi, J. N., &amp; Lewis, J. L. (2008). Early intervention in reading: From research to practice. </a:t>
            </a:r>
            <a:r>
              <a:rPr b="0" i="1" lang="en-US" sz="1100" spc="-1" strike="noStrike">
                <a:solidFill>
                  <a:srgbClr val="000000"/>
                </a:solidFill>
                <a:latin typeface="Century Schoolbook"/>
              </a:rPr>
              <a:t>Remedial and Special Education, </a:t>
            </a:r>
            <a:r>
              <a:rPr b="0" lang="en-US" sz="1100" spc="-1" strike="noStrike">
                <a:solidFill>
                  <a:srgbClr val="000000"/>
                </a:solidFill>
                <a:latin typeface="Century Schoolbook"/>
              </a:rPr>
              <a:t>29 (2), 67-77.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Wasik, B. (2008). When fewer is more: Small group in early childhood classrooms. </a:t>
            </a:r>
            <a:r>
              <a:rPr b="0" i="1" lang="en-US" sz="1100" spc="-1" strike="noStrike">
                <a:solidFill>
                  <a:srgbClr val="000000"/>
                </a:solidFill>
                <a:latin typeface="Century Schoolbook"/>
              </a:rPr>
              <a:t>Early Childhood Education Journal</a:t>
            </a:r>
            <a:r>
              <a:rPr b="0" lang="en-US" sz="1100" spc="-1" strike="noStrike">
                <a:solidFill>
                  <a:srgbClr val="000000"/>
                </a:solidFill>
                <a:latin typeface="Century Schoolbook"/>
              </a:rPr>
              <a:t>, 35, 515-521. doi 10.1007/s10643-008-0245-4.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PPENDIX A: CONSENT FORM</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ar Parents,</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My name is Ruth Carrion, I am the first grade Dual Language teacher at P.S. X. I am currently completing my master’s degree in education at Brooklyn College and am conducting a study on the benefits of small group reading instruction for our English language learners. I am requesting your permission to use your child’s data for my research study. I will be using gathered data from their reading assessments. There will be a pre and post-test administered as well as running records to measure students’ reading level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All results for this study will be reported as a group study therefore, participants names and information will be anonymou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Thank you for your support!</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Sincerely,</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Ruth Carrion</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PPENDIX B: READING 3D ASSESSMENT</a:t>
            </a:r>
            <a:endParaRPr b="0" lang="en-US" sz="3000" spc="-1" strike="noStrike">
              <a:solidFill>
                <a:srgbClr val="575f6d"/>
              </a:solidFill>
              <a:latin typeface="Century Schoolbook"/>
            </a:endParaRPr>
          </a:p>
        </p:txBody>
      </p:sp>
      <p:pic>
        <p:nvPicPr>
          <p:cNvPr id="393" name="Content Placeholder 4" descr="mclassppt.pdf"/>
          <p:cNvPicPr/>
          <p:nvPr/>
        </p:nvPicPr>
        <p:blipFill>
          <a:blip r:embed="rId1"/>
          <a:srcRect l="-9198" t="0" r="-9198" b="0"/>
          <a:stretch/>
        </p:blipFill>
        <p:spPr>
          <a:xfrm>
            <a:off x="-258840" y="1417680"/>
            <a:ext cx="8875800" cy="577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680"/>
            <a:ext cx="7467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APPENDIX C: READING LEVELS</a:t>
            </a:r>
            <a:endParaRPr b="0" lang="en-US" sz="2700" spc="-1" strike="noStrike">
              <a:solidFill>
                <a:srgbClr val="575f6d"/>
              </a:solidFill>
              <a:latin typeface="Century Schoolbook"/>
            </a:endParaRPr>
          </a:p>
        </p:txBody>
      </p:sp>
      <p:pic>
        <p:nvPicPr>
          <p:cNvPr id="395" name="Content Placeholder 5" descr="MultiPeriodClassSummary.do.pdf"/>
          <p:cNvPicPr/>
          <p:nvPr/>
        </p:nvPicPr>
        <p:blipFill>
          <a:blip r:embed="rId1"/>
          <a:srcRect l="2047" t="9023" r="25367" b="26814"/>
          <a:stretch/>
        </p:blipFill>
        <p:spPr>
          <a:xfrm>
            <a:off x="457200" y="725400"/>
            <a:ext cx="7467480" cy="582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ABLE OF CONTENTS </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of the Proble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view of Related Literatu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Hypothes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thod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ticipa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rum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63" name="Picture 3" descr=""/>
          <p:cNvPicPr/>
          <p:nvPr/>
        </p:nvPicPr>
        <p:blipFill>
          <a:blip r:embed="rId1"/>
          <a:stretch/>
        </p:blipFill>
        <p:spPr>
          <a:xfrm>
            <a:off x="5875200" y="2460600"/>
            <a:ext cx="1879560" cy="172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STATEMENT OF THE PROBLEM</a:t>
            </a:r>
            <a:endParaRPr b="0" lang="en-US" sz="3200" spc="-1" strike="noStrike">
              <a:solidFill>
                <a:srgbClr val="575f6d"/>
              </a:solidFill>
              <a:latin typeface="Century Schoolbook"/>
            </a:endParaRPr>
          </a:p>
        </p:txBody>
      </p:sp>
      <p:sp>
        <p:nvSpPr>
          <p:cNvPr id="365" name=""/>
          <p:cNvSpPr txBox="1"/>
          <p:nvPr/>
        </p:nvSpPr>
        <p:spPr>
          <a:xfrm>
            <a:off x="456840" y="141768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isting research has proven there to be a connection between small group reading instruction and the progress in students’ instructional reading levels.</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hough research on small group instruction and its benefits on English language learners are limited when ELL students are given the opportunity to work in small reading groups they make significant improvement in their reading and language abilitie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67" name=""/>
          <p:cNvSpPr txBox="1"/>
          <p:nvPr/>
        </p:nvSpPr>
        <p:spPr>
          <a:xfrm>
            <a:off x="456840" y="1417320"/>
            <a:ext cx="7467480" cy="52498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Amendum, Creamer, Fitzgerald, Hall, Head-Reeves, Hollingsworth, &amp; Li (2009); Foorman, Breier, &amp; Fletcher (2003)</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single best weapon against reading failure is the quality of reading instruction given in the primary grades. The most effective intervention is provided earlier in education.</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Kuhn, (2004), (2005); Abbott, Greenwood, &amp; Kamps (2008)</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searchers agree that there is a direct connection between fluency and reading comprehension. Through small groups teachers can build fluency, language skill, and reading comprehension.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Abrami, Lou, &amp; Chambers, (2000); Kendall, (2006); Huebner, (2009); Wasik, (2008); McIntyre, Kyle &amp; Moore, (2006).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rough small group instruction students with similar needs can interact through partnerships and work together to support each other’s learning.</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Cirino, Linan-Thompson, Prater, &amp; Vaughn (2006); Kendall (2006); Wasik (2008); Cooke, Helf, &amp; Flowers,(2009)</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0" lang="en-US" sz="2000" spc="-1" strike="noStrike">
                <a:solidFill>
                  <a:srgbClr val="000000"/>
                </a:solidFill>
                <a:latin typeface="Century Schoolbook"/>
              </a:rPr>
              <a:t>Small group reading allows students to feel more at ease and gives them more opportunities to speak. Teachers can give students direct feedback and time for meaningful dialogue.</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Cooke, Helf, &amp; Flowers, (2009)</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most effective grouping condition for struggling readers and the condition found to have greater reading gains for struggling students was determined as one teacher to three students.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Abbott, Greenwood, &amp; Kamps (2007), (2008);</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 </a:t>
            </a:r>
            <a:r>
              <a:rPr b="1" lang="en-US" sz="2200" spc="-1" strike="noStrike">
                <a:solidFill>
                  <a:srgbClr val="000000"/>
                </a:solidFill>
                <a:latin typeface="Century Schoolbook"/>
              </a:rPr>
              <a:t>Menzies, Mahdavi, &amp; Lewis (2008)</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mplementing progress monitoring, instructing students in small groups of 3-6 students, and an explicit instructional approach in small group instruction helps prevent reading failure. As a result of the intervention students met and exceeded grade level reading expectations by the end of the year.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Kuhn, (2005)</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en given the opportunity to simply read, struggling readers receive greater doses of word work and different strategies to help them become better readers.</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Kendall, (2006)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mall group intervention is beneficial to English Language Learners. It supports students’ oral language development and it sets the classroom environment to be relaxed and comfortable for students to speak the language, listen, learn to read, and write without thinking about the everyday pressur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 CON</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oper, MacGregor, Smith, Robinson (2000)</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mall group work with older students in high school can be challenging when students resist to working in small groups. </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are performing well without small group instruction. There is no need for it when students are moving alo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ATEMENT OF HYPOTHESI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integrating 18 twenty minute sessions of small group instruction to 10 first grade ELL students over a period of six weeks at P.S X in Queens, N. Y., students will exceed grade level reading standards as well as make significant improvement in language skills as measured by the literacy assessment Reading 3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8" name="Picture 3" descr=""/>
          <p:cNvPicPr/>
          <p:nvPr/>
        </p:nvPicPr>
        <p:blipFill>
          <a:blip r:embed="rId1"/>
          <a:stretch/>
        </p:blipFill>
        <p:spPr>
          <a:xfrm>
            <a:off x="3457440" y="4629240"/>
            <a:ext cx="1968480" cy="151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21:53:03Z</dcterms:created>
  <dc:creator>Ruth Arias</dc:creator>
  <dc:description/>
  <dc:language>en-US</dc:language>
  <cp:lastModifiedBy>Ruth Arias</cp:lastModifiedBy>
  <dcterms:modified xsi:type="dcterms:W3CDTF">2010-05-25T00:02:43Z</dcterms:modified>
  <cp:revision>68</cp:revision>
  <dc:subject/>
  <dc:title>Small Group Reading Instruction:  the benefits on ell students</dc:title>
</cp:coreProperties>
</file>